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158413" cy="8586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B0A-8880-4EB6-B065-A514E14E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96296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A0A-8E23-470C-832B-FEFA5894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355-0073-4BC0-A916-91257F3E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3C2-A658-4FEA-B9AB-459B6BD4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55A-849F-4F61-AF9A-1296F605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929-C9D9-464F-B55A-FB97D227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A68-D2AC-4DC4-B554-683771F0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EB49-B806-46A6-A1B4-460C4501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44160"/>
            <a:ext cx="914400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7FF-C801-494C-9B12-C3F55018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87F-A6C8-490A-AB9C-EFB221E4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05D4-1AF5-42C5-8098-EBD3F2E5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178-C4C8-42A0-96EC-1B45AB16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818480"/>
            <a:ext cx="2370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818480"/>
            <a:ext cx="3216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818480"/>
            <a:ext cx="2370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8978-8F80-447F-9B7E-23FD2FAB1F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9144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 - 28"/>
              </a:rPr>
              <a:t>Objective: To recognise and recall prim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879560" y="2158920"/>
            <a:ext cx="6327720" cy="4422960"/>
            <a:chOff x="1879560" y="2158920"/>
            <a:chExt cx="6327720" cy="4422960"/>
          </a:xfrm>
        </p:grpSpPr>
        <p:sp>
          <p:nvSpPr>
            <p:cNvPr id="43" name=""/>
            <p:cNvSpPr/>
            <p:nvPr/>
          </p:nvSpPr>
          <p:spPr>
            <a:xfrm>
              <a:off x="1879560" y="2158920"/>
              <a:ext cx="6327720" cy="4422960"/>
            </a:xfrm>
            <a:custGeom>
              <a:avLst/>
              <a:gdLst/>
              <a:ahLst/>
              <a:rect l="l" t="t" r="r" b="b"/>
              <a:pathLst>
                <a:path w="3986" h="2786">
                  <a:moveTo>
                    <a:pt x="0" y="0"/>
                  </a:moveTo>
                  <a:lnTo>
                    <a:pt x="3985" y="0"/>
                  </a:lnTo>
                  <a:lnTo>
                    <a:pt x="3985" y="2785"/>
                  </a:lnTo>
                  <a:lnTo>
                    <a:pt x="0" y="27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fa"/>
            </a:solidFill>
            <a:ln w="38160">
              <a:solidFill>
                <a:srgbClr val="e6e6f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97560" y="3873600"/>
              <a:ext cx="14731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700" spc="-1" strike="noStrike">
                  <a:solidFill>
                    <a:srgbClr val="000000"/>
                  </a:solidFill>
                  <a:latin typeface="Comic Sans MS - 28"/>
                </a:rPr>
                <a:t>23</a:t>
              </a:r>
              <a:endParaRPr b="0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5435640" y="2958840"/>
              <a:ext cx="1092240" cy="965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5016600" y="2704680"/>
              <a:ext cx="0" cy="1003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3073320" y="3314880"/>
              <a:ext cx="1524240" cy="698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3035160" y="4711680"/>
              <a:ext cx="154944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65840" y="4749840"/>
              <a:ext cx="0" cy="1054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48240" y="4597560"/>
              <a:ext cx="1778040" cy="1193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486400" y="4089240"/>
              <a:ext cx="1219320" cy="190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034800" y="4483080"/>
              <a:ext cx="1460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41400" y="140976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 - 28"/>
              </a:rPr>
              <a:t>Find as many sums that = 23 as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960" y="0"/>
            <a:ext cx="91947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700" spc="-1" strike="noStrike">
                <a:solidFill>
                  <a:srgbClr val="ffffe0"/>
                </a:solidFill>
                <a:latin typeface="Comic Sans MS - 16"/>
              </a:rPr>
              <a:t>The Million Dollar Prime!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5480" y="3568680"/>
            <a:ext cx="8510760" cy="1843200"/>
          </a:xfrm>
          <a:custGeom>
            <a:avLst/>
            <a:gdLst/>
            <a:ahLst/>
            <a:rect l="l" t="t" r="r" b="b"/>
            <a:pathLst>
              <a:path w="5361" h="1161">
                <a:moveTo>
                  <a:pt x="0" y="0"/>
                </a:moveTo>
                <a:lnTo>
                  <a:pt x="5360" y="0"/>
                </a:lnTo>
                <a:lnTo>
                  <a:pt x="5360" y="1160"/>
                </a:lnTo>
                <a:lnTo>
                  <a:pt x="0" y="1160"/>
                </a:lnTo>
                <a:lnTo>
                  <a:pt x="0" y="0"/>
                </a:lnTo>
                <a:close/>
              </a:path>
            </a:pathLst>
          </a:custGeom>
          <a:solidFill>
            <a:srgbClr val="e6e6fa"/>
          </a:solidFill>
          <a:ln w="38160">
            <a:solidFill>
              <a:srgbClr val="e6e6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80" y="762120"/>
            <a:ext cx="9348480" cy="2109600"/>
          </a:xfrm>
          <a:custGeom>
            <a:avLst/>
            <a:gdLst/>
            <a:ahLst/>
            <a:rect l="l" t="t" r="r" b="b"/>
            <a:pathLst>
              <a:path w="5889" h="1329">
                <a:moveTo>
                  <a:pt x="0" y="0"/>
                </a:moveTo>
                <a:lnTo>
                  <a:pt x="5888" y="0"/>
                </a:lnTo>
                <a:lnTo>
                  <a:pt x="5888" y="1328"/>
                </a:lnTo>
                <a:lnTo>
                  <a:pt x="0" y="1328"/>
                </a:lnTo>
                <a:lnTo>
                  <a:pt x="0" y="0"/>
                </a:lnTo>
                <a:close/>
              </a:path>
            </a:pathLst>
          </a:custGeom>
          <a:solidFill>
            <a:srgbClr val="e6e6fa"/>
          </a:solidFill>
          <a:ln w="38160">
            <a:solidFill>
              <a:srgbClr val="e6e6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8400" y="1015920"/>
            <a:ext cx="957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 - 28"/>
              </a:rPr>
              <a:t>A prime number has only two facto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 - 28"/>
              </a:rPr>
              <a:t>1 and the number its 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20840" y="3809880"/>
            <a:ext cx="7873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 - 28"/>
              </a:rPr>
              <a:t>1 is not a prime number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ShockwaveFlash1"/>
          <p:cNvGraphicFramePr/>
          <p:nvPr/>
        </p:nvGraphicFramePr>
        <p:xfrm>
          <a:off x="507960" y="177840"/>
          <a:ext cx="63500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77840"/>
                    <a:ext cx="63500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188120" y="571680"/>
            <a:ext cx="271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Prime Numb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1701720"/>
            <a:ext cx="292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Which are Pr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3360"/>
            <a:ext cx="7404120" cy="6289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560" y="177840"/>
            <a:ext cx="160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6- gri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480" y="2768760"/>
            <a:ext cx="941040" cy="461880"/>
          </a:xfrm>
          <a:custGeom>
            <a:avLst/>
            <a:gdLst/>
            <a:ahLst/>
            <a:rect l="l" t="t" r="r" b="b"/>
            <a:pathLst>
              <a:path w="593" h="291">
                <a:moveTo>
                  <a:pt x="0" y="0"/>
                </a:moveTo>
                <a:lnTo>
                  <a:pt x="592" y="0"/>
                </a:lnTo>
                <a:lnTo>
                  <a:pt x="59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00080">
              <a:alpha val="35000"/>
            </a:srgbClr>
          </a:solidFill>
          <a:ln w="38160">
            <a:solidFill>
              <a:srgbClr val="800080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28080" y="1155600"/>
            <a:ext cx="1828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On your 6 grid fill in all the numbers and colour all the prim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74920" y="241200"/>
            <a:ext cx="941400" cy="462240"/>
          </a:xfrm>
          <a:custGeom>
            <a:avLst/>
            <a:gdLst/>
            <a:ahLst/>
            <a:rect l="l" t="t" r="r" b="b"/>
            <a:pathLst>
              <a:path w="593" h="291">
                <a:moveTo>
                  <a:pt x="0" y="0"/>
                </a:moveTo>
                <a:lnTo>
                  <a:pt x="592" y="0"/>
                </a:lnTo>
                <a:lnTo>
                  <a:pt x="59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00080">
              <a:alpha val="35000"/>
            </a:srgbClr>
          </a:solidFill>
          <a:ln w="38160">
            <a:solidFill>
              <a:srgbClr val="800080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90840" y="241200"/>
            <a:ext cx="941400" cy="462240"/>
          </a:xfrm>
          <a:custGeom>
            <a:avLst/>
            <a:gdLst/>
            <a:ahLst/>
            <a:rect l="l" t="t" r="r" b="b"/>
            <a:pathLst>
              <a:path w="593" h="291">
                <a:moveTo>
                  <a:pt x="0" y="0"/>
                </a:moveTo>
                <a:lnTo>
                  <a:pt x="592" y="0"/>
                </a:lnTo>
                <a:lnTo>
                  <a:pt x="59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00080">
              <a:alpha val="35000"/>
            </a:srgbClr>
          </a:solidFill>
          <a:ln w="38160">
            <a:solidFill>
              <a:srgbClr val="800080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60840" y="254160"/>
            <a:ext cx="941400" cy="461880"/>
          </a:xfrm>
          <a:custGeom>
            <a:avLst/>
            <a:gdLst/>
            <a:ahLst/>
            <a:rect l="l" t="t" r="r" b="b"/>
            <a:pathLst>
              <a:path w="593" h="291">
                <a:moveTo>
                  <a:pt x="0" y="0"/>
                </a:moveTo>
                <a:lnTo>
                  <a:pt x="592" y="0"/>
                </a:lnTo>
                <a:lnTo>
                  <a:pt x="59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00080">
              <a:alpha val="35000"/>
            </a:srgbClr>
          </a:solidFill>
          <a:ln w="38160">
            <a:solidFill>
              <a:srgbClr val="800080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54080" y="444600"/>
            <a:ext cx="8615520" cy="4408560"/>
          </a:xfrm>
          <a:custGeom>
            <a:avLst/>
            <a:gdLst/>
            <a:ahLst/>
            <a:rect l="l" t="t" r="r" b="b"/>
            <a:pathLst>
              <a:path w="5427" h="2777">
                <a:moveTo>
                  <a:pt x="0" y="0"/>
                </a:moveTo>
                <a:lnTo>
                  <a:pt x="5426" y="0"/>
                </a:lnTo>
                <a:lnTo>
                  <a:pt x="5426" y="2776"/>
                </a:lnTo>
                <a:lnTo>
                  <a:pt x="0" y="27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1920" y="72396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Mathematicians are trying to find a formula to get prime numbe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171880" y="2006640"/>
            <a:ext cx="5130720" cy="2385000"/>
            <a:chOff x="2171880" y="2006640"/>
            <a:chExt cx="5130720" cy="2385000"/>
          </a:xfrm>
        </p:grpSpPr>
        <p:sp>
          <p:nvSpPr>
            <p:cNvPr id="73" name=""/>
            <p:cNvSpPr/>
            <p:nvPr/>
          </p:nvSpPr>
          <p:spPr>
            <a:xfrm>
              <a:off x="4000680" y="2006640"/>
              <a:ext cx="246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1800" spc="-1" strike="noStrike" baseline="70000">
                  <a:solidFill>
                    <a:srgbClr val="000000"/>
                  </a:solidFill>
                  <a:latin typeface="Comic Sans MS - 28"/>
                </a:rPr>
                <a:t>2  </a:t>
              </a:r>
              <a:r>
                <a:rPr b="0" lang="en-GB" sz="2800" spc="-1" strike="noStrike">
                  <a:solidFill>
                    <a:srgbClr val="000000"/>
                  </a:solidFill>
                  <a:latin typeface="Comic Sans MS - 28"/>
                </a:rPr>
                <a:t> - n   + 4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86000" y="247644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 - 28"/>
                </a:rPr>
                <a:t>n =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25880" y="2514600"/>
              <a:ext cx="32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 - 28"/>
                </a:rPr>
                <a:t>1   - 1   +  41  = 4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22640" y="3086280"/>
              <a:ext cx="1269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 - 28"/>
                </a:rPr>
                <a:t>n = 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87720" y="2984400"/>
              <a:ext cx="2387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 - 28"/>
                </a:rPr>
                <a:t>4  -  2  +  4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59600" y="3022560"/>
              <a:ext cx="109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 - 28"/>
                </a:rPr>
                <a:t>=4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71880" y="3886200"/>
              <a:ext cx="1269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 - 28"/>
                </a:rPr>
                <a:t>n = 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952560" y="5486400"/>
            <a:ext cx="58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Mersenne Primes in attac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0:31:34Z</dcterms:created>
  <dc:creator>image</dc:creator>
  <dc:description/>
  <dc:language>en-US</dc:language>
  <cp:lastModifiedBy>image</cp:lastModifiedBy>
  <dcterms:modified xsi:type="dcterms:W3CDTF">2011-04-19T10:31:35Z</dcterms:modified>
  <cp:revision>1</cp:revision>
  <dc:subject/>
  <dc:title>Slide 1</dc:title>
</cp:coreProperties>
</file>